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D0460-DC70-49F6-B429-352E28744F6A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2D428-6F5C-4707-AAEC-081C51842F6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65DD-BE78-44E4-A17E-4107B3E280E6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36608-BD95-4993-BF2D-6F9224917D75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EF8B-637E-47F8-A37E-D4AE0EA3636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64FB4-E879-4F84-BA00-FC70B1A45563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DE2B-A9B7-437F-9786-6CBB98112C6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D316-6438-48A7-88F8-8AE80AE1A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7A16-65CA-4831-8592-DC9AAC60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BE7A6-AFA8-46EB-AB4F-1A4AE794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F7733-A557-468E-8923-0496F7140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22699-F016-4042-83C4-16EE8AD4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026FA-A47F-4A14-B2ED-E276E4C58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757245-8F39-4711-A8A5-3F57B94E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FBF57-28E0-4523-B0E5-877B8280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15E620-6A9B-4797-9F51-981580F5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8A462-6277-4341-B9AF-5C021BDC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5C00F5-F71F-45E8-9715-C5D0FA5A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4161C7-1F8E-42CF-BEFA-BA660F8E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0078-93A3-4B30-9873-F2F40281D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456559-7454-4D71-9D2B-B2CA303C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1A117-B0BD-45A7-86E5-ED140A753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FDF7E-D4B0-4497-96A9-CDFDD1A2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B54EA-022E-4AB2-8129-F09A70133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203A1D-3D04-405E-9493-0A46FC4E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D60808-5044-4AF7-B6DE-9193462A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DC165-B6A9-4C54-B92C-B6119E6A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CC2511-161B-45B6-A019-637245806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EEDCF-335E-42C6-8561-C039F606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EF2E03-B280-4D2B-9C5B-7AB76A0B0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4D85-2C15-47AC-8020-69E2A9224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13A071-92EF-4D0A-AD79-7A3276465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F7C48-0333-4DFA-8950-3CECCE80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A797A7-6BBF-4B86-A33F-1E27F676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444E32-2BAA-446F-987F-F4111883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62D7D9-A998-4F70-83BB-65056EF4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418D3-2FED-4965-8268-71CA0408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EF7BC8-286C-42CC-BDAE-4AA00468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B8D0A-D440-448D-AAC0-839ECED9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B02E0-DCF8-49FC-A33B-02D917561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016CE-96B9-49DA-B543-73669F38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CFD7-AB97-4554-AF58-7A4A42895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6F9CF-14AE-46CB-A0DC-FCC6CD612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25867-181F-464B-AB4F-E570AFC8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7B4FE9-FF21-4630-8DC6-B5ED5D97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A1E707-71FB-43F3-A7A1-DD9866574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ECAA7B-6870-4079-8C96-E518B06C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41C047-BEF8-48FE-BE42-9D856747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01ADAC-1F06-47E0-880E-F2464BD7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F43596-01D7-4648-94F0-3700AE86C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950D26-91E9-4E84-AAE2-B292A9E8A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B4773B-BB2A-4A46-B3D7-667BE21D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749A-C7DD-4CF0-9FAA-68088293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21163-0F39-4124-B341-342E5E85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19A1D-9F74-4791-83E7-19517914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8D438F-5B03-43E8-A8F1-89F4BD304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CC142B-0C8E-4368-B473-77B17F6BA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AEED24-5666-427A-BDE7-107B1B78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9E343-3B62-4211-B0B0-3D70B84C3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48BB2-4DD3-428F-973D-F7E31DF3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E9F37-635A-42DF-B051-F2F8F231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F24781-F9BE-4ACA-8F36-1A6E52B71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7910C9-2515-443B-8C81-DFEC0A4D5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A4C7-DFE5-44BD-A55C-ADA58D3E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D01DC7-EF26-4FC9-8CDE-99DEBDAF2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981D0A-6DBE-47CE-AF2F-874C737A2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2DB839-C2EA-4449-8035-100B2C0C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D9BF28-ABAC-427A-90A0-80461B9F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3861D6-4198-4E73-BB67-F5F017EB4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607C0A-AD18-457A-A5D2-E12AD2F20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0D3C7-33EE-46F4-99ED-DC7378324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04E4A-01FA-42DF-AD19-F18F24CF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6E658-3D67-4E08-8396-ED099992F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2F162-3F47-4B92-9F47-707FFB1D5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BA98-E9CD-4D64-A142-3DE44C1A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C42B-528B-4362-BD54-684FAD09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74C96-15B8-4406-B04B-4C2F9F3FD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FAF1-1D4E-483B-9825-2AE7AC15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96F6-099E-40AC-8AD1-AE035D9B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8C4EB-C4DA-41E9-804A-7EADD754F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DD93-581E-4009-B92D-3F6C9926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6003CE-1988-4658-AE83-AE0830D0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0A33D-4EE3-4D06-A6B2-0D93B3444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29DF7-4C69-4171-B003-B72BB7C18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D62A-3A3B-46AE-B45F-4E0977D3B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E0E06-6CE5-4D0C-BBB6-624F5FAD7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640-1BC0-4F16-8298-F7C4836D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72F6F-EC1B-4676-B60E-40B5F332B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517D-86CB-451C-A257-98CA3E90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2185C-0870-48DA-B122-7C73CBBF1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388B-91BF-4CF1-BAB3-0B15D8F83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72720-5FF0-490C-AF10-C12814E4A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58943-E3C0-469D-9320-7A7F0B697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BA775-B0C3-41F6-856E-696A89CCE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E2063-8716-4526-B205-A827B416B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ED03-0FEF-41AD-93F6-850E2AE7F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F540F-79FD-4AD9-83CE-89A5A55D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68A-6026-415D-A6DF-A3AF67F02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E5260-1ED3-4668-B30E-5AE3B72D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2357F0-01C5-46A1-A8D9-640FF4EF7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9D32F-5E7A-45B7-B112-56B03789F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B591-C233-41D6-A20B-42A0EBCB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E96E2-695A-486B-91E3-65A62297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92B80-BE62-4B0C-8BE0-3481BF28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81A3E-853F-4EC2-A7FA-E53DFFD5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7E8E1-42A5-45CA-8A5A-6126D82CE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742B0-01AA-4CDA-A533-0AEBF7522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73E13-B466-47F1-82B6-8466F6D84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CBDD-BF04-440D-9C31-E3028841E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FCE5E-3453-4CE8-B029-C23A1878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2A1D8-6E45-4221-98F8-467E158E1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45C8E-AD54-4098-91AA-8D1100B8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530F37-C4CC-4079-BCEA-EB68D961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175A4-4973-4CC9-A8A6-A5BE60C6A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00FF9-294E-4A93-91E9-980890BCE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EC062-94C8-4DF4-BCA2-65A406E8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43B7C-19C4-4825-B0E5-3C258F22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92948-8B1E-4B2B-9EED-9ECAFBA2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E3618-0F1B-42BF-9F15-55C45C0D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306F-8614-4D28-B9AA-95B01AFED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2FF55-69CB-4B32-9467-8F753567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E3DEF-10FC-49A0-A89E-34B7C2964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E8F75-87D9-420F-9A46-00573B4A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24300-A16F-40F8-A71E-71CC9E5E7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674B-CE6B-4E68-803E-35354B5D0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E6D65C-D80C-4592-A61E-DA76407F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4DB292-F043-4B7D-8A4B-97FC1595D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F645C-322F-44F8-A03E-960B826E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F4CC7-CC87-4B11-9A63-6BF3F8DE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2DAC0E-B1A0-4945-B46F-37010BD78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1DA-A550-4081-9EA9-A56F03D3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BDDC-F243-45BF-9876-28294BAA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1FF4B-D399-4840-91E2-71AF1192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7177DF-E8E5-4091-BFAE-DB46FF2B6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1857B-EB1A-4DCA-9B22-FB6B21CE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45A40F-6698-4CA2-89B2-D41DFA809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13F5D-C643-4C96-B0CB-DAC29049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86D41-9352-4696-912D-C013B6798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C28D7D-041A-4FD2-A085-3D8F572A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C206B-4DD8-4B21-A9CA-4453EA98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41D8A-13A8-4453-BD46-1B62FB3B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6F06-AB5B-4031-B45D-DEAE4D6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F395A-E471-4A7C-994C-19EEB38D0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E8213-A224-40B3-94BF-C8D55878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73F2F2-2FFC-429C-B26A-D9992A9C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70C30E-8C9E-426D-B05E-59F97C3E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3D7C3F-78FA-49BC-9660-9475A116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5E4789-CE5D-4513-A293-9BC14AA43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55AE9-C510-40FB-A72C-667DCF9A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5C4AC-06BF-4CDE-90BD-8457B632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4E484D-284A-4B13-96EF-5D0872AA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191011-57E0-46ED-A817-61F2ECD1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EE17-408E-4154-9171-56648A01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6840" y="272880"/>
            <a:ext cx="82263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1AAE9-1DC9-4EF8-8412-78CD3C41C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1191B-C9E3-47BE-A35B-DE84FDE4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0D80F-4721-4A97-B417-152C83FA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46E1-E93F-44B2-8621-5D6C04793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6840" y="3968280"/>
            <a:ext cx="8226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D2689D-ECB0-4464-8485-55DE6789C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2440" y="16048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68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2440" y="3968280"/>
            <a:ext cx="40143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BB1C5-7ECA-4CE5-B51F-C0DDFAA16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820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19560" y="16048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684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820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19560" y="3968280"/>
            <a:ext cx="2648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F5F00-59E7-40AD-A99C-85427E126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48BD0-64E3-40BC-9D1E-DB5499945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D01C85-2722-448F-8B95-3C47980DD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8DD85-2572-45AD-8E8E-9F8BC766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06D-A9FA-4075-BD65-CF161DFCA3EE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474D-6EA5-44D3-AD71-08CE571E3286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269F-D288-4C0D-B33D-8670C79B303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B1AC-1D0A-41B2-8E8A-953115D1FA55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18C7-95BC-4115-BB7D-2CDCF096D5E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7152-A11A-46BF-8724-26729E5DA21F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0A8A-5148-4EDD-A3B2-4F674CF12FCC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E50D6-E338-4931-BE1A-D2F958542DE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B4A87-9454-4FEE-9B35-32F980457D6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03A5-DB55-4FCF-81F5-5CE28BCA6D43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D27E-7BE8-47CF-9331-AAD60D0BF5FB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29DE-885C-4520-B878-33CB0FD7BB00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4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5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6" marL="309600" indent="-309600">
              <a:lnSpc>
                <a:spcPct val="93000"/>
              </a:lnSpc>
              <a:spcAft>
                <a:spcPts val="1287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6720"/>
            <a:ext cx="21272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E88C9-A8AD-43F4-A7BD-D1248B37596A}" type="slidenum">
              <a:rPr b="0" lang="ru-RU" sz="13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436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класс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: «Школа Росси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3058920" y="3885840"/>
            <a:ext cx="4392360" cy="25671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: Золотухина О.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ОУ «СОШ№71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 Пер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2023920"/>
            <a:ext cx="8655120" cy="72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2160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называется это домашнее животно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3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05636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69944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гласных и согласных звуков в слов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ru-RU" sz="7200" spc="-1" strike="noStrike">
                <a:solidFill>
                  <a:srgbClr val="336600"/>
                </a:solidFill>
                <a:latin typeface="Arial"/>
              </a:rPr>
              <a:t>О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РОВ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слогов в слове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ая соединительная линия 4"/>
          <p:cNvSpPr/>
          <p:nvPr/>
        </p:nvSpPr>
        <p:spPr>
          <a:xfrm flipH="1">
            <a:off x="5003280" y="1989000"/>
            <a:ext cx="360360" cy="43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Арка 8"/>
          <p:cNvSpPr/>
          <p:nvPr/>
        </p:nvSpPr>
        <p:spPr>
          <a:xfrm flipV="1">
            <a:off x="2987640" y="3429000"/>
            <a:ext cx="914400" cy="216000"/>
          </a:xfrm>
          <a:custGeom>
            <a:avLst/>
            <a:gdLst>
              <a:gd name="textAreaLeft" fmla="*/ 0 w 914400"/>
              <a:gd name="textAreaRight" fmla="*/ 914760 w 914400"/>
              <a:gd name="textAreaTop" fmla="*/ 0 h 216000"/>
              <a:gd name="textAreaBottom" fmla="*/ 108000 h 216000"/>
            </a:gdLst>
            <a:ahLst/>
            <a:rect l="textAreaLeft" t="textAreaTop" r="textAreaRight" b="textAreaBottom"/>
            <a:pathLst>
              <a:path w="914400" h="215900">
                <a:moveTo>
                  <a:pt x="0" y="107949"/>
                </a:moveTo>
                <a:lnTo>
                  <a:pt x="0" y="107949"/>
                </a:lnTo>
                <a:arcTo wR="457200" hR="107950" stAng="-10799992" swAng="10800000"/>
                <a:lnTo>
                  <a:pt x="860425" y="107950"/>
                </a:lnTo>
                <a:lnTo>
                  <a:pt x="860425" y="107950"/>
                </a:lnTo>
                <a:arcTo wR="403225" hR="5397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Арка 9"/>
          <p:cNvSpPr/>
          <p:nvPr/>
        </p:nvSpPr>
        <p:spPr>
          <a:xfrm flipV="1">
            <a:off x="4067280" y="3357720"/>
            <a:ext cx="914400" cy="358560"/>
          </a:xfrm>
          <a:custGeom>
            <a:avLst/>
            <a:gdLst>
              <a:gd name="textAreaLeft" fmla="*/ 0 w 914400"/>
              <a:gd name="textAreaRight" fmla="*/ 914760 w 914400"/>
              <a:gd name="textAreaTop" fmla="*/ 0 h 358560"/>
              <a:gd name="textAreaBottom" fmla="*/ 179280 h 358560"/>
            </a:gdLst>
            <a:ahLst/>
            <a:rect l="textAreaLeft" t="textAreaTop" r="textAreaRight" b="textAreaBottom"/>
            <a:pathLst>
              <a:path w="914400" h="358775">
                <a:moveTo>
                  <a:pt x="0" y="179387"/>
                </a:moveTo>
                <a:lnTo>
                  <a:pt x="0" y="179387"/>
                </a:lnTo>
                <a:arcTo wR="457200" hR="179388" stAng="-10799992" swAng="10800000"/>
                <a:lnTo>
                  <a:pt x="824706" y="179388"/>
                </a:lnTo>
                <a:lnTo>
                  <a:pt x="824706" y="179388"/>
                </a:lnTo>
                <a:arcTo wR="367506" hR="89694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Арка 10"/>
          <p:cNvSpPr/>
          <p:nvPr/>
        </p:nvSpPr>
        <p:spPr>
          <a:xfrm flipV="1">
            <a:off x="5219640" y="3429000"/>
            <a:ext cx="914400" cy="287280"/>
          </a:xfrm>
          <a:custGeom>
            <a:avLst/>
            <a:gdLst>
              <a:gd name="textAreaLeft" fmla="*/ 0 w 914400"/>
              <a:gd name="textAreaRight" fmla="*/ 914760 w 914400"/>
              <a:gd name="textAreaTop" fmla="*/ 360 h 287280"/>
              <a:gd name="textAreaBottom" fmla="*/ 144000 h 287280"/>
            </a:gdLst>
            <a:ahLst/>
            <a:rect l="textAreaLeft" t="textAreaTop" r="textAreaRight" b="textAreaBottom"/>
            <a:pathLst>
              <a:path w="914400" h="287338">
                <a:moveTo>
                  <a:pt x="0" y="143668"/>
                </a:moveTo>
                <a:lnTo>
                  <a:pt x="0" y="143668"/>
                </a:lnTo>
                <a:arcTo wR="457200" hR="143669" stAng="-10799992" swAng="10800000"/>
                <a:lnTo>
                  <a:pt x="842566" y="143669"/>
                </a:lnTo>
                <a:lnTo>
                  <a:pt x="842566" y="143669"/>
                </a:lnTo>
                <a:arcTo wR="385366" hR="71835" stAng="0" swAng="-10800000"/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620280"/>
            <a:ext cx="663588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де на изображении коровы можно найти букву «О»?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лько раз она вам встретила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457200" y="16459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2" descr=""/>
          <p:cNvPicPr/>
          <p:nvPr/>
        </p:nvPicPr>
        <p:blipFill>
          <a:blip r:embed="rId1"/>
          <a:stretch/>
        </p:blipFill>
        <p:spPr>
          <a:xfrm>
            <a:off x="324000" y="2349360"/>
            <a:ext cx="7632720" cy="4319640"/>
          </a:xfrm>
          <a:prstGeom prst="rect">
            <a:avLst/>
          </a:prstGeom>
          <a:ln w="0">
            <a:noFill/>
          </a:ln>
        </p:spPr>
      </p:pic>
      <p:cxnSp>
        <p:nvCxnSpPr>
          <p:cNvPr id="555" name="Прямая со стрелкой 5"/>
          <p:cNvCxnSpPr/>
          <p:nvPr/>
        </p:nvCxnSpPr>
        <p:spPr>
          <a:xfrm>
            <a:off x="4716000" y="1844280"/>
            <a:ext cx="72360" cy="2809080"/>
          </a:xfrm>
          <a:prstGeom prst="straightConnector1">
            <a:avLst/>
          </a:prstGeom>
          <a:ln w="3816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556" name="Прямая со стрелкой 9"/>
          <p:cNvCxnSpPr/>
          <p:nvPr/>
        </p:nvCxnSpPr>
        <p:spPr>
          <a:xfrm>
            <a:off x="3203640" y="2060280"/>
            <a:ext cx="216720" cy="2664360"/>
          </a:xfrm>
          <a:prstGeom prst="straightConnector1">
            <a:avLst/>
          </a:prstGeom>
          <a:ln w="763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557" name="Прямая со стрелкой 12"/>
          <p:cNvCxnSpPr/>
          <p:nvPr/>
        </p:nvCxnSpPr>
        <p:spPr>
          <a:xfrm>
            <a:off x="971640" y="2204640"/>
            <a:ext cx="2232720" cy="3312360"/>
          </a:xfrm>
          <a:prstGeom prst="straightConnector1">
            <a:avLst/>
          </a:prstGeom>
          <a:ln w="57240">
            <a:solidFill>
              <a:srgbClr val="ffc000"/>
            </a:solidFill>
            <a:miter/>
            <a:tailEnd len="med" type="triangle" w="med"/>
          </a:ln>
        </p:spPr>
      </p:cxnSp>
      <p:cxnSp>
        <p:nvCxnSpPr>
          <p:cNvPr id="558" name="Прямая со стрелкой 17"/>
          <p:cNvCxnSpPr/>
          <p:nvPr/>
        </p:nvCxnSpPr>
        <p:spPr>
          <a:xfrm flipH="1">
            <a:off x="5651280" y="2421000"/>
            <a:ext cx="1800720" cy="1800720"/>
          </a:xfrm>
          <a:prstGeom prst="straightConnector1">
            <a:avLst/>
          </a:prstGeom>
          <a:ln w="76320">
            <a:solidFill>
              <a:srgbClr val="ff0000"/>
            </a:solidFill>
            <a:miter/>
            <a:tailEnd len="med" type="arrow" w="med"/>
          </a:ln>
        </p:spPr>
      </p:cxn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55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8160" cy="215892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Напишите слово в тетради для словарной работы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зделите слово для переноса, поставьте ударение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826920" y="2133360"/>
            <a:ext cx="727416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ru-RU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2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968720" cy="35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82263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иши грамотно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t">
            <a:normAutofit/>
          </a:bodyPr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б не обиделась корова,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не прокисло молоко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олжны запомнить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9600" indent="-309600">
              <a:lnSpc>
                <a:spcPct val="93000"/>
              </a:lnSpc>
              <a:spcAft>
                <a:spcPts val="1287"/>
              </a:spcAft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Напишем только с буквой </a:t>
            </a:r>
            <a:r>
              <a:rPr b="1" lang="ru-RU" sz="29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250560" y="1557000"/>
            <a:ext cx="843444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5560" bIns="0" anchor="ctr">
            <a:noAutofit/>
          </a:bodyPr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 Шаблон презентации «Луг»// Федотова Виктория Александровна, учитель начальных классов МОУ СОШ с. Лохово Черемховского р-на Иркутской об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 В.В. Волина.Учимся играя. – М.: Новая школа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selnov-grahovo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coollady.ru/puc/4/korova/6.j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zhivotnye/korova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 Рисунок «Корова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http://raskraska.eu/risunok/zhivotnye/korova/raskraska/korova-37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>
              <a:lnSpc>
                <a:spcPct val="93000"/>
              </a:lnSpc>
              <a:spcAft>
                <a:spcPts val="1287"/>
              </a:spcAft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9600" indent="0" algn="ctr">
              <a:lnSpc>
                <a:spcPct val="93000"/>
              </a:lnSpc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2T13:22:31Z</dcterms:created>
  <dc:creator>Сергей</dc:creator>
  <dc:description/>
  <dc:language>en-US</dc:language>
  <cp:lastModifiedBy>Сергей</cp:lastModifiedBy>
  <dcterms:modified xsi:type="dcterms:W3CDTF">2013-06-10T15:49:12Z</dcterms:modified>
  <cp:revision>42</cp:revision>
  <dc:subject/>
  <dc:title>Слайд 1</dc:title>
</cp:coreProperties>
</file>